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8B9-032A-4A22-8921-242ED96F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E42-2646-425A-A19A-29F96B6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9CB-3BF3-46CC-8504-48E50D8F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F61-CA90-4C18-89BC-E8DF828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299-D3F7-4F27-8DBE-3F42851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5CA-40A5-4783-8F17-F6D9867D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AE6-2394-4D19-813F-3B96C24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897-F426-4211-8E30-1C07207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77D-2376-4726-8D5F-F42C5A4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BA2-5EC8-4F17-98DC-E99BE11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C1C-6013-43D2-93F9-BC1A27E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B53-83E2-41E4-BA79-9658145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9496-73D9-4077-8D3A-2688BA452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Но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играют в пр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ека</a:t>
            </a: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о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бир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р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ш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льс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ид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бавочной линейк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» сидит, как на скамей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8" descr="До - копия.jpg"/>
          <p:cNvPicPr/>
          <p:nvPr/>
        </p:nvPicPr>
        <p:blipFill>
          <a:blip r:embed="rId1"/>
          <a:stretch/>
        </p:blipFill>
        <p:spPr>
          <a:xfrm>
            <a:off x="826920" y="1557360"/>
            <a:ext cx="781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 всех под нотоносц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лилась нота «Ре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ычит на всех серди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Рексик в кон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До, ре.jpg"/>
          <p:cNvPicPr/>
          <p:nvPr/>
        </p:nvPicPr>
        <p:blipFill>
          <a:blip r:embed="rId1"/>
          <a:stretch/>
        </p:blipFill>
        <p:spPr>
          <a:xfrm>
            <a:off x="900000" y="2205000"/>
            <a:ext cx="7891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перв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Ми» живё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о улыбается. Песенки 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До, ре, ми - копия.jpg"/>
          <p:cNvPicPr/>
          <p:nvPr/>
        </p:nvPicPr>
        <p:blipFill>
          <a:blip r:embed="rId1"/>
          <a:stretch/>
        </p:blipFill>
        <p:spPr>
          <a:xfrm>
            <a:off x="900000" y="2421000"/>
            <a:ext cx="77612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До, Ре, 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До, ре, ми - цветн. - копия.jpg"/>
          <p:cNvPicPr/>
          <p:nvPr/>
        </p:nvPicPr>
        <p:blipFill>
          <a:blip r:embed="rId1"/>
          <a:stretch/>
        </p:blipFill>
        <p:spPr>
          <a:xfrm>
            <a:off x="900000" y="2048040"/>
            <a:ext cx="7704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рес ноты «Фа» просто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 первой и втор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а» стоит между линее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осту как часо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Фа.jpg"/>
          <p:cNvPicPr/>
          <p:nvPr/>
        </p:nvPicPr>
        <p:blipFill>
          <a:blip r:embed="rId1"/>
          <a:stretch/>
        </p:blipFill>
        <p:spPr>
          <a:xfrm>
            <a:off x="2411280" y="2852640"/>
            <a:ext cx="558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та «соль» сказала деловито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реди нот я очень знаменита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линейке я сиж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 скрипичным ключиком дру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Соль.jpg"/>
          <p:cNvPicPr/>
          <p:nvPr/>
        </p:nvPicPr>
        <p:blipFill>
          <a:blip r:embed="rId1"/>
          <a:stretch/>
        </p:blipFill>
        <p:spPr>
          <a:xfrm>
            <a:off x="2484360" y="2741760"/>
            <a:ext cx="48164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 – соль, фа – сол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и выросла фас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Фа, соль.jpg"/>
          <p:cNvPicPr/>
          <p:nvPr/>
        </p:nvPicPr>
        <p:blipFill>
          <a:blip r:embed="rId1"/>
          <a:stretch/>
        </p:blipFill>
        <p:spPr>
          <a:xfrm>
            <a:off x="1187280" y="1844640"/>
            <a:ext cx="7056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5" descr="До, ре, ми, фа, соль - цвет.jpg"/>
          <p:cNvPicPr/>
          <p:nvPr/>
        </p:nvPicPr>
        <p:blipFill>
          <a:blip r:embed="rId1"/>
          <a:stretch/>
        </p:blipFill>
        <p:spPr>
          <a:xfrm>
            <a:off x="457200" y="2525760"/>
            <a:ext cx="82296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7:47:17Z</dcterms:created>
  <dc:creator>Admin</dc:creator>
  <dc:description/>
  <dc:language>en-US</dc:language>
  <cp:lastModifiedBy>Анна</cp:lastModifiedBy>
  <dcterms:modified xsi:type="dcterms:W3CDTF">2013-06-02T18:20:48Z</dcterms:modified>
  <cp:revision>21</cp:revision>
  <dc:subject/>
  <dc:title>Слайд 1</dc:title>
</cp:coreProperties>
</file>